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148E-F83D-4A5F-A3DD-3C8A49C2A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16CA-6FDB-42EC-BDE6-CAFAAF112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A5D6-67FF-4380-8266-B1EAE66F0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B822-421F-406B-959D-2A6359D48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602E-39D4-4B6B-B148-43115686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164F-6EB5-43A2-A5DE-F404918C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D00A-6EA0-4A1A-851D-28310F73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664-A4D9-4795-865D-14364A58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BB0E-C1D4-47B6-864F-D82CCD16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0F6A-640E-43BE-9849-19F247E7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34A8-AC87-483C-961F-3CF6F84C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A40-7D82-49DE-9609-3B8C9CA2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C12E-04ED-4090-B717-2A07B0D9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46B-7CD1-4859-8EAF-4E636B3A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7E9-A42E-45EA-92D7-BAE9FF47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53F4-92DC-4DCD-80D4-EFB7F712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7DC5-2C4E-4D7F-8799-021490F8D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xic Popcor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an of highly toxic radioactive popcorn has contaminated a circle of approximately 4 feet in diameter.  The toxic area extends to the ceiling.  If the toxic popcorn is not transferred to a safe container for decontamination, then it will contaminate Limerick and the surrounding area.  The popcorn is estimated to have a safe life of exactly 20 minutes before a disaster occurs.  It’s up to you to save the day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ide the circle you will find two cans.  O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unsafe container) is half full of the highly toxic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dioactive popcorn.  The other (safe) container i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ailable for decontamination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nd a way to safely transfer the toxic popcorn fr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unsafe container to the safe container, us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ly the materials provided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80880" y="3049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one may cross the plane of the circle with any part of the bo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the ropes &amp; tire tube may cross the plane of the circ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spills are allowed, or the popcorn will explo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may use only the materials provi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opcorn must be transferred with in 20 minutes or there will be a disaster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09480" y="380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1:27:10Z</dcterms:created>
  <dc:creator> </dc:creator>
  <dc:description/>
  <dc:language>en-US</dc:language>
  <cp:lastModifiedBy> </cp:lastModifiedBy>
  <dcterms:modified xsi:type="dcterms:W3CDTF">2010-08-05T10:37:52Z</dcterms:modified>
  <cp:revision>42</cp:revision>
  <dc:subject/>
  <dc:title>Toxic Popcorn </dc:title>
</cp:coreProperties>
</file>